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7C6-EE55-4302-8AD9-A965F9FD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D74-8ACC-4955-81EE-4F493E0C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DDA-12B1-46B2-A5B9-8A2DD047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988-22D7-4C7F-9FBF-36AC51A9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D60-DAAA-4903-A99D-258C56CB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34FE-D649-4E1E-9B21-E28744F0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0DA-9C34-48E0-9C49-CFE6B229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434-2013-4434-8957-6F1F1F0E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0C6-E701-47E0-AAD9-CA0A39D4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BDC-68F3-4333-B3BE-A5B4B756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AA6-FB05-4886-AB8D-B5AB77BA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4B40-2101-413D-9FC4-1FC60845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B64E-D13A-44E7-AEAD-524628917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stant rev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al Protestant re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crucifixes, relics, stained-glass windows, and murals from their chur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d shrines and pilgr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spect of rev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for a warm, emotional religion all coul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husiasm was a key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s a drunkard becomes filled with wine, so must the congregation become filled with spir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s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ble reading and study were extended to all classes, a powerful spur for individual religious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serted the earlier radical stress on the priesthood of all belie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s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d in the practical power of Christian rebirth in everyday aff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expected to lead good, moral lives regardless of soci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as a group at Oxford known as The Holy Club (organized by John Wesley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called Methodists because they were very methodical in their dev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ubled by problems with the faith in Eng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d simony, not building churches to accommodate the growing population, and skepticism caused by the Enlighte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Wes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led 250,000 miles on horse back over 50 years, preaching over 40,000 serm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ed Calvin’s “Predestin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ministry eventually became the new denomination known as Method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47:56Z</dcterms:created>
  <dc:creator>MNS</dc:creator>
  <dc:description/>
  <dc:language>en-US</dc:language>
  <cp:lastModifiedBy>MNS</cp:lastModifiedBy>
  <dcterms:modified xsi:type="dcterms:W3CDTF">2009-12-04T14:12:03Z</dcterms:modified>
  <cp:revision>2</cp:revision>
  <dc:subject/>
  <dc:title>Protestant revival</dc:title>
</cp:coreProperties>
</file>